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7A5-0607-4811-9CB3-F94BC6A5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814-7ED3-4121-BCE7-604F989A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C58-BD1F-4208-9415-DF230DD6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3219-4DC6-4D19-8819-FFD15224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6032-3DDC-4572-9183-6A748E983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CBF1-ACD1-45F5-AADE-0AB5FE62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5706-B528-4399-868B-991C4A9D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CC24-664E-44A9-9A5D-10E414AB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1B63-E779-4568-ADD4-3EBD44D07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DB38-E008-4214-AA76-0E7710E6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0D1D4-4ADE-43DA-BBB4-5E16937A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AE62-5F69-4754-91B1-5088C5F8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0D26-51C4-46C5-8393-D4BC5334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BEC6-2ED6-4799-9E85-A64340A5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9B654-2163-4BBA-AF11-8C9B9D80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36D3-ED2B-4053-83D2-4F6A5D41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595D-D481-4923-80D8-B33A1C89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A474-F996-480D-8B1E-35BFBF3B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AA64-A0F7-4F2B-8B24-8DAFC17B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65E3-6B16-4D25-A4E5-BFE56998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D3D-D0F6-4588-A3AB-D04919A2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BB4-06B9-44E5-9A0C-AFF9C3F2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411-2B25-4696-94D4-6B3FC0EC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ADE-D4D3-48CA-A17F-E7FCA3E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25F8-EC19-4403-B76F-B2DBC4A53C6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C2CA-C1B2-41D0-AAB5-029E7F2E08E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4764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Edwardian Script ITC"/>
              </a:rPr>
              <a:t>Clonarea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627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655640" cy="6408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593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2664000" cy="287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700" spc="-1" strike="noStrike">
                <a:solidFill>
                  <a:srgbClr val="000000"/>
                </a:solidFill>
                <a:latin typeface="Edwardian Script ITC"/>
              </a:rPr>
              <a:t>Ce este clonarea umana?</a:t>
            </a:r>
            <a:endParaRPr b="0" lang="en-US" sz="5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403848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Clonarea umana reprezinta crearea unei copii genetice a unui om care exista deja. Termenul este folosit pentru clonarea umana artificiala, facuta in laborator si nu cea naturala –gemenii, tripletii monozigo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Clonarea presupune lipsa aportului genetic masculin la conceptie.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Clona poate apartine genetic unui barbat sau unei femei in viata.</a:t>
            </a:r>
            <a:r>
              <a:rPr b="0" lang="hu-HU" sz="20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641480" y="3955680"/>
            <a:ext cx="3925800" cy="2063880"/>
          </a:xfrm>
          <a:prstGeom prst="rect">
            <a:avLst/>
          </a:prstGeom>
          <a:ln w="0">
            <a:noFill/>
          </a:ln>
        </p:spPr>
      </p:pic>
      <p:pic>
        <p:nvPicPr>
          <p:cNvPr id="93" name="Kép 2" descr="C:\Documents and Settings\Rendszergazda\Asztal\clonare_1_top.jpg"/>
          <p:cNvPicPr/>
          <p:nvPr/>
        </p:nvPicPr>
        <p:blipFill>
          <a:blip r:embed="rId3"/>
          <a:stretch/>
        </p:blipFill>
        <p:spPr>
          <a:xfrm>
            <a:off x="6958080" y="206064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94" name="Kép 3" descr="C:\Documents and Settings\Rendszergazda\Asztal\clona.jpg"/>
          <p:cNvPicPr/>
          <p:nvPr/>
        </p:nvPicPr>
        <p:blipFill>
          <a:blip r:embed="rId4"/>
          <a:stretch/>
        </p:blipFill>
        <p:spPr>
          <a:xfrm>
            <a:off x="5448240" y="4149720"/>
            <a:ext cx="3695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451640" y="4365720"/>
            <a:ext cx="1692360" cy="1800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80866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Edwardian Script ITC"/>
              </a:rPr>
              <a:t>Tehnica clonarii</a:t>
            </a:r>
            <a:br>
              <a:rPr sz="7000"/>
            </a:br>
            <a:endParaRPr b="0" lang="en-US" sz="7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ata cum descrie pe scurt Dr. John M. Haas tehnologia clonarii prin"somatic cell nuclear transfer: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mic Sans MS"/>
              </a:rPr>
              <a:t>‘’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Nucleul unei celule somatice este luat si pus într-un ou al carui propriu nucleu a fost extras. Este ca si cum am înlocui galbenusul unui ou. Dupa ce nucleul oului este eliminat si înlocuit cu nucleul celulei somatice, oul este supus unei descarcari electrice într-o placa de sticla si noua viata începe sa creasca odata ce începe diviziunea celulara</a:t>
            </a:r>
            <a:r>
              <a:rPr b="0" i="1" lang="en-US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r>
              <a:rPr b="0" i="1" lang="hu-HU" sz="2000" spc="-1" strike="noStrike">
                <a:solidFill>
                  <a:srgbClr val="000000"/>
                </a:solidFill>
                <a:latin typeface="Comic Sans MS"/>
              </a:rPr>
              <a:t>’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66280" y="1752480"/>
            <a:ext cx="8001000" cy="2060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4220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3567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ffffff"/>
                </a:solidFill>
                <a:latin typeface="Edwardian Script ITC"/>
              </a:rPr>
              <a:t>Pâna aici tehnica este comuna celor doua tipuri de clonare. Daca se intentioneaza însa clonarea reproductiva, urmatorul pas este implantarea embrionului în uterul unei femei, urmat de gestatie si nastere. </a:t>
            </a:r>
            <a:r>
              <a:rPr b="0" lang="en-US" sz="3000" spc="-1" strike="noStrike">
                <a:solidFill>
                  <a:srgbClr val="ffffff"/>
                </a:solidFill>
                <a:latin typeface="Edwardian Script ITC"/>
              </a:rPr>
              <a:t>Aceasta este tehnica prin care a fost creata oaia Doll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Nuclear Transfer Vie Electrofusion in Mammals - diagram"/>
          <p:cNvPicPr/>
          <p:nvPr/>
        </p:nvPicPr>
        <p:blipFill>
          <a:blip r:embed="rId3"/>
          <a:stretch/>
        </p:blipFill>
        <p:spPr>
          <a:xfrm>
            <a:off x="684360" y="1844640"/>
            <a:ext cx="7775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51228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In 2003, Oaia Dolly, primul mamifer clonat, a fost eutanasiata din cauza unui incurabil cancer la plamani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lly s-a nascut la Institutul Roslin, Edinburgh, Scotia, la data de 5 iulie 1996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Oamenii de stiinta au inlocuit nucleul unui ovul cu nucleul dintr-o celula parentala – in cazul lui Dolly, o celula provenita din ug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Nasterea lui Dolly a fost anuntata in 1997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Moartea lui Dolly, la fel ca si nasterea sa, a ridicat noi probleme cu privire la cunoasterea procedeului clonarii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084720" y="4076640"/>
            <a:ext cx="305928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48360" y="1557360"/>
            <a:ext cx="30956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                    </a:t>
            </a:r>
            <a:r>
              <a:rPr b="1" lang="en-US" sz="6400" spc="-1" strike="noStrike">
                <a:solidFill>
                  <a:srgbClr val="000000"/>
                </a:solidFill>
                <a:latin typeface="Edwardian Script ITC"/>
              </a:rPr>
              <a:t>Clonarea </a:t>
            </a:r>
            <a:r>
              <a:rPr b="1" lang="hu-HU" sz="6400" spc="-1" strike="noStrike">
                <a:solidFill>
                  <a:srgbClr val="000000"/>
                </a:solidFill>
                <a:latin typeface="Edwardian Script ITC"/>
              </a:rPr>
              <a:t>plantelor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52480" y="1805040"/>
            <a:ext cx="497052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ntru obtinerea clonelor se utilizeaza fie prelevarea meristemelor, fie inmultirea vegetativ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t la plante, prin cultura de pollen, antere, ovare sau ovule nefecundate se obtin organisme haploide normale, dar sterile</a:t>
            </a:r>
            <a:r>
              <a:rPr b="0" lang="ro-RO" sz="2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198108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1280" y="3789360"/>
            <a:ext cx="2952720" cy="2808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219640" y="549360"/>
            <a:ext cx="3384720" cy="1819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2857680"/>
            <a:ext cx="5715000" cy="40003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395280" y="333360"/>
            <a:ext cx="48769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Edwardian Script ITC"/>
              </a:rPr>
              <a:t>Sfarsit</a:t>
            </a:r>
            <a:endParaRPr b="0" lang="en-US" sz="7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554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Edwardian Script ITC"/>
              </a:rPr>
              <a:t>Acest proiect a fost realizat de:Suciu Denisa, Resch Noemi, Berner Yvette si Haaz Helga</a:t>
            </a:r>
            <a:r>
              <a:rPr b="1" lang="hu-HU" sz="3500" spc="-1" strike="noStrike">
                <a:solidFill>
                  <a:srgbClr val="000000"/>
                </a:solidFill>
                <a:latin typeface="Edwardian Script ITC"/>
              </a:rPr>
              <a:t>, Bohler Heni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0T21:51:24Z</dcterms:created>
  <dc:creator>Suciu Denisa</dc:creator>
  <dc:description/>
  <dc:language>en-US</dc:language>
  <cp:lastModifiedBy>Yvette</cp:lastModifiedBy>
  <dcterms:modified xsi:type="dcterms:W3CDTF">2011-06-10T13:51:27Z</dcterms:modified>
  <cp:revision>4</cp:revision>
  <dc:subject/>
  <dc:title>Slide 1</dc:title>
</cp:coreProperties>
</file>